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E542-503C-4471-8B76-5EE2604B8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072F-24F1-4138-8DEF-16A709C59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9B45-061A-47D5-B8D4-98E658CE7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777A-1B7D-49B0-959A-55E22211A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3E8C-BCAB-445C-ACAA-44003F3EB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4C9B-4F44-4421-9EF5-34DC938EC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FE47-11CD-4907-8C80-8344B0D7F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312D-536D-46B1-A8BE-501E17245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909C-FAFB-436F-9B6A-FBB106023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6854-65A6-4FCC-B53A-783CDD3FF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502D-12FD-49CA-B05F-2710449C8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4402-6575-47E3-A3C5-704C74DF4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32A9-35A3-4F23-862E-DC8220759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12C5-04C8-4E97-8BD5-5E2292186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D0C9-DA79-407B-9A26-BAA5A5C43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DEBC-42A3-48B6-B6A1-23A12F459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C719-D62D-44CB-A979-E713FEC83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FCA4-A028-4C66-97CF-7BD2ED92C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65C4-A284-4EC8-ACAA-7B737487E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5936-8F5B-4411-9953-B03FABC07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C154-FFEE-482F-8348-E9A81AA8D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84FE-54A5-4994-AC27-0FB353ADA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208F-B2D8-424C-8809-90C26D0CD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49CE-E349-4437-B31F-E8FE794AE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F393-389F-46EC-B4EA-19A75C38E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51E4-997D-4811-B21B-1E7332F9E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4949-D2B2-4B81-A7BD-56B9AD342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2882-4EF7-40DE-A091-1B0F73ACC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D7AF-E019-4D53-B764-DD1174566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3B0C-7CDF-4CDB-84A5-D5993977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5800" y="5389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088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F3D1-22F0-491C-946B-2B6F9D69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5800" y="5389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9792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8088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9792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D6A-3D59-4AB5-AC01-9E28FC09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5800" y="5389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16332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576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808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16332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576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3AD8-93E7-4AE3-8A18-E37EC466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45F3-1A73-4880-B1FD-B39DD51F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5800" y="5389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8088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BC49-2387-4D1E-BB0E-A7B524F2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5800" y="5389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5FA1-1671-4A3F-AC30-7B091D50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5800" y="5389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C06D-258A-4EDF-BB2E-E487B801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5800" y="5389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AFBE-5ABD-4619-B709-00C98EE5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25800" y="538920"/>
            <a:ext cx="495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0E23-284D-47C4-BFF8-6DCEAB7B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5800" y="5389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9792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8088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BF8C-2995-48A5-990A-B8026E8A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5800" y="5389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8088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AF02-6343-4CD5-8CA7-A3289B44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5800" y="5389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9792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9792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99C1-6637-43E3-B8BA-7854CB4A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5800" y="5389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9792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088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BA73-CD37-4242-A351-57DC4490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5800" y="5389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088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0776-CCEC-4A80-8AAC-582388A9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5800" y="5389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9792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88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9792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E972-2A52-4A3B-AFB2-0E3A511D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5800" y="5389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16332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576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3808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16332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576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88C3-C9D5-4DB0-B67B-8FA13BB0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5800" y="5389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EA88-3232-4D97-9C7D-C119A9B3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5800" y="5389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792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F9BD-163C-43F4-8974-776EB319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5800" y="5389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8C7B-F036-4C2B-9B54-14C48F80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25800" y="538920"/>
            <a:ext cx="495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386F-B941-4BAB-A2F0-0F47F1A2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5800" y="5389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792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13D2-9924-438A-9B4F-D66FF0AB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5800" y="5389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792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9792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256A-25C8-4463-8FAC-4E30CEB3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5800" y="5389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8AE6-DAB5-4B17-985B-55F2F2FF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152280" y="152280"/>
            <a:ext cx="8839440" cy="6477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380520" y="61686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047760" y="61686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477120" y="61686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7A9C-F415-46D0-A4B0-AFD96B2F2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38088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 rot="21132600">
            <a:off x="380160" y="19764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 rot="21232800">
            <a:off x="152280" y="304920"/>
            <a:ext cx="533412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 rot="21227400">
            <a:off x="150840" y="287280"/>
            <a:ext cx="5486400" cy="1069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57200" y="76320"/>
            <a:ext cx="762120" cy="12952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0" y="2743200"/>
            <a:ext cx="152280" cy="533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0" y="3276720"/>
            <a:ext cx="152280" cy="533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0" y="3809880"/>
            <a:ext cx="15228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0" y="4038480"/>
            <a:ext cx="152280" cy="7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0" y="4114800"/>
            <a:ext cx="15228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0" y="4648320"/>
            <a:ext cx="15228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0" y="4876920"/>
            <a:ext cx="152280" cy="914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0" y="579132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0" y="6095880"/>
            <a:ext cx="152280" cy="228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0" y="6324480"/>
            <a:ext cx="15228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0" y="6477120"/>
            <a:ext cx="15228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152280" y="152280"/>
            <a:ext cx="8839440" cy="6477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0" y="2743200"/>
            <a:ext cx="152280" cy="533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0" y="3276720"/>
            <a:ext cx="152280" cy="533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3809880"/>
            <a:ext cx="15228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0" y="4038480"/>
            <a:ext cx="152280" cy="7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0" y="4114800"/>
            <a:ext cx="15228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0" y="4648320"/>
            <a:ext cx="15228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0" y="4876920"/>
            <a:ext cx="152280" cy="914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0" y="579132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0" y="6095880"/>
            <a:ext cx="152280" cy="228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0" y="6324480"/>
            <a:ext cx="15228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9"/>
          <p:cNvSpPr/>
          <p:nvPr/>
        </p:nvSpPr>
        <p:spPr>
          <a:xfrm>
            <a:off x="0" y="6477120"/>
            <a:ext cx="15228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152280" y="68580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Times New Roman"/>
              </a:rPr>
              <a:t>&gt; &gt; &gt; &gt; &gt; &gt; &gt; &gt;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38088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 rot="21132600">
            <a:off x="380160" y="19764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61E7-8270-4B58-9081-4FBCE5D56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nagement, Leadership, and Internal Organiz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6"/>
          <p:cNvSpPr/>
          <p:nvPr/>
        </p:nvSpPr>
        <p:spPr>
          <a:xfrm rot="21265200">
            <a:off x="995400" y="1522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Importance of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80520" y="18748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different types and levels of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s should have a comprehensive planning fra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mission statement to objectives and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 functional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s outline the steps the company will take to meet outlined goals and objec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pull dir="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5"/>
          <p:cNvSpPr/>
          <p:nvPr/>
        </p:nvSpPr>
        <p:spPr>
          <a:xfrm rot="21265200">
            <a:off x="990720" y="22824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lanning at Different Organizational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80880" y="1905120"/>
            <a:ext cx="84582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7810560" cy="246564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7"/>
          <p:cNvSpPr/>
          <p:nvPr/>
        </p:nvSpPr>
        <p:spPr>
          <a:xfrm rot="21265200">
            <a:off x="914400" y="22716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Strategic          Plann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ftp://emcgemod:jws&amp;ed$@ftp.wiley.com/ftp6/authors/emcgee/Boone_13e/PowerPoints/BoonKurzt_CB_JPG_May09/Ch08/Figure%208.2.jpg"/>
          <p:cNvPicPr/>
          <p:nvPr/>
        </p:nvPicPr>
        <p:blipFill>
          <a:blip r:embed="rId1"/>
          <a:stretch/>
        </p:blipFill>
        <p:spPr>
          <a:xfrm>
            <a:off x="609480" y="2286000"/>
            <a:ext cx="8161560" cy="35053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 rot="21265200">
            <a:off x="914400" y="38052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SWO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ftp://emcgemod:jws&amp;ed$@ftp.wiley.com/ftp6/authors/emcgee/Boone_13e/PowerPoints/BoonKurzt_CB_JPG_May09/Ch08/Figure%208.3.jpg"/>
          <p:cNvPicPr/>
          <p:nvPr/>
        </p:nvPicPr>
        <p:blipFill>
          <a:blip r:embed="rId1"/>
          <a:stretch/>
        </p:blipFill>
        <p:spPr>
          <a:xfrm>
            <a:off x="1219320" y="1828800"/>
            <a:ext cx="6715080" cy="44308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Decision maki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rocess of recognizing a problem or opportunity, evaluating alternative solutions, selecting and implementing an alternative, and assessing the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ed dec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volves simple, common problems with predetermined 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programmed dec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volves a complex, unique problem or opportunity with important consequences for the 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 rot="21265200">
            <a:off x="1001880" y="152280"/>
            <a:ext cx="449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Managers as Decision Ma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trips dir="lu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8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 rot="21265200">
            <a:off x="995400" y="22716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How Managers Make Deci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ftp://emcgemod:jws&amp;ed$@ftp.wiley.com/ftp6/authors/emcgee/Boone_13e/PowerPoints/BoonKurzt_CB_JPG_May09/Ch08/Figure%208.4.jpg"/>
          <p:cNvPicPr/>
          <p:nvPr/>
        </p:nvPicPr>
        <p:blipFill>
          <a:blip r:embed="rId1"/>
          <a:stretch/>
        </p:blipFill>
        <p:spPr>
          <a:xfrm>
            <a:off x="762120" y="2438280"/>
            <a:ext cx="7772400" cy="208764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04920" y="16765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6c29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c2973"/>
                </a:solidFill>
                <a:latin typeface="Arial"/>
              </a:rPr>
              <a:t>Leadershi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ability to direct or inspire people to attain organizational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s the use of influence or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traits are common among many lead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pa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f-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vity in dealing with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Picture 4"/>
          <p:cNvPicPr/>
          <p:nvPr/>
        </p:nvPicPr>
        <p:blipFill>
          <a:blip r:embed="rId1"/>
          <a:stretch/>
        </p:blipFill>
        <p:spPr>
          <a:xfrm>
            <a:off x="6934320" y="1066680"/>
            <a:ext cx="1873080" cy="30481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 rot="21265200">
            <a:off x="1001880" y="152280"/>
            <a:ext cx="449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Managers as Lea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plus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7"/>
          <p:cNvSpPr/>
          <p:nvPr/>
        </p:nvSpPr>
        <p:spPr>
          <a:xfrm>
            <a:off x="4343400" y="1619280"/>
            <a:ext cx="4343400" cy="1219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ead"/>
                </a:solidFill>
                <a:latin typeface="Arial"/>
              </a:rPr>
              <a:t>Autocratic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decisions on own without consulting employ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343400" y="4648320"/>
            <a:ext cx="4343400" cy="914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ead"/>
                </a:solidFill>
                <a:latin typeface="Arial"/>
              </a:rPr>
              <a:t>Free-Rein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 most decisions to employ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4343400" y="2971800"/>
            <a:ext cx="4343400" cy="1453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ead"/>
                </a:solidFill>
                <a:latin typeface="Arial"/>
              </a:rPr>
              <a:t>Democratic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 employees in decisions, delegate assignments and ask employees for sugg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 rot="21265200">
            <a:off x="1007640" y="37908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Leadership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7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353040" cy="44193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u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85800" y="16002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 rot="21265200">
            <a:off x="1007640" y="37908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orporate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1143000" y="3733920"/>
            <a:ext cx="5181480" cy="266688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agerial philosophi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munications networks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orkplace environment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actices all influence corpor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ul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2286000" y="1523880"/>
            <a:ext cx="5181480" cy="2667240"/>
          </a:xfrm>
          <a:prstGeom prst="cube">
            <a:avLst>
              <a:gd name="adj" fmla="val 25000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rporate Cul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ganizations system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ciples, beliefs, and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comb dir="horz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5"/>
          <p:cNvSpPr/>
          <p:nvPr/>
        </p:nvSpPr>
        <p:spPr>
          <a:xfrm rot="21265200">
            <a:off x="995400" y="1810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rganizationa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04920" y="1905120"/>
            <a:ext cx="853416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d grouping of people working together to achieve common go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key el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uman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al-directed activit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9" descr="ftp://emcgemod:jws&amp;ed$@ftp.wiley.com/ftp6/authors/emcgee/Boone_13e/PowerPoints/BoonKurzt_CB_JPG_May09/Ch08/Figure%208.5.jpg"/>
          <p:cNvPicPr/>
          <p:nvPr/>
        </p:nvPicPr>
        <p:blipFill>
          <a:blip r:embed="rId1"/>
          <a:stretch/>
        </p:blipFill>
        <p:spPr>
          <a:xfrm>
            <a:off x="609480" y="4343400"/>
            <a:ext cx="7543800" cy="19969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split dir="in" orient="horz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9"/>
          <p:cNvSpPr/>
          <p:nvPr/>
        </p:nvSpPr>
        <p:spPr>
          <a:xfrm>
            <a:off x="685800" y="1905120"/>
            <a:ext cx="3657600" cy="41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kills necessary for managerial suc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the role of vision and ethical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ize the benefits of planning and distinguish strategic, tactical, and operational plan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the strategic planning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4952880" y="1905120"/>
            <a:ext cx="3886200" cy="44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st the types of business decisions and list the steps in the decision-making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adersh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compare different styles of leadersh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the meaning and importance of corporat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forms of departmentalization and types of organization 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7"/>
          <p:cNvSpPr/>
          <p:nvPr/>
        </p:nvSpPr>
        <p:spPr>
          <a:xfrm rot="21265200">
            <a:off x="1072800" y="38736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Learning Go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48"/>
          <p:cNvSpPr/>
          <p:nvPr/>
        </p:nvSpPr>
        <p:spPr>
          <a:xfrm>
            <a:off x="309600" y="1996920"/>
            <a:ext cx="380880" cy="3812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9"/>
          <p:cNvSpPr/>
          <p:nvPr/>
        </p:nvSpPr>
        <p:spPr>
          <a:xfrm>
            <a:off x="304920" y="1981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50"/>
          <p:cNvSpPr/>
          <p:nvPr/>
        </p:nvSpPr>
        <p:spPr>
          <a:xfrm>
            <a:off x="304920" y="3276720"/>
            <a:ext cx="380880" cy="3808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1"/>
          <p:cNvSpPr/>
          <p:nvPr/>
        </p:nvSpPr>
        <p:spPr>
          <a:xfrm>
            <a:off x="304920" y="32767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52"/>
          <p:cNvSpPr/>
          <p:nvPr/>
        </p:nvSpPr>
        <p:spPr>
          <a:xfrm>
            <a:off x="304920" y="4327560"/>
            <a:ext cx="380880" cy="3808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3"/>
          <p:cNvSpPr/>
          <p:nvPr/>
        </p:nvSpPr>
        <p:spPr>
          <a:xfrm>
            <a:off x="304920" y="43275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54"/>
          <p:cNvSpPr/>
          <p:nvPr/>
        </p:nvSpPr>
        <p:spPr>
          <a:xfrm>
            <a:off x="304920" y="5546880"/>
            <a:ext cx="380880" cy="3808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5"/>
          <p:cNvSpPr/>
          <p:nvPr/>
        </p:nvSpPr>
        <p:spPr>
          <a:xfrm>
            <a:off x="304920" y="5546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6"/>
          <p:cNvSpPr/>
          <p:nvPr/>
        </p:nvSpPr>
        <p:spPr>
          <a:xfrm>
            <a:off x="4572000" y="2068560"/>
            <a:ext cx="380880" cy="3808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7"/>
          <p:cNvSpPr/>
          <p:nvPr/>
        </p:nvSpPr>
        <p:spPr>
          <a:xfrm>
            <a:off x="4572000" y="20574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8"/>
          <p:cNvSpPr/>
          <p:nvPr/>
        </p:nvSpPr>
        <p:spPr>
          <a:xfrm>
            <a:off x="4572000" y="3260880"/>
            <a:ext cx="380880" cy="3808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9"/>
          <p:cNvSpPr/>
          <p:nvPr/>
        </p:nvSpPr>
        <p:spPr>
          <a:xfrm>
            <a:off x="4572000" y="3260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0"/>
          <p:cNvSpPr/>
          <p:nvPr/>
        </p:nvSpPr>
        <p:spPr>
          <a:xfrm>
            <a:off x="4568760" y="4343400"/>
            <a:ext cx="381240" cy="3808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1"/>
          <p:cNvSpPr/>
          <p:nvPr/>
        </p:nvSpPr>
        <p:spPr>
          <a:xfrm>
            <a:off x="4572000" y="43592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62"/>
          <p:cNvSpPr/>
          <p:nvPr/>
        </p:nvSpPr>
        <p:spPr>
          <a:xfrm>
            <a:off x="4572000" y="5530680"/>
            <a:ext cx="380880" cy="3812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3"/>
          <p:cNvSpPr/>
          <p:nvPr/>
        </p:nvSpPr>
        <p:spPr>
          <a:xfrm>
            <a:off x="4575240" y="5546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6"/>
          <p:cNvSpPr/>
          <p:nvPr/>
        </p:nvSpPr>
        <p:spPr>
          <a:xfrm rot="21265200">
            <a:off x="718560" y="455760"/>
            <a:ext cx="50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Organizational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ftp://emcgemod:jws&amp;ed$@ftp.wiley.com/ftp6/authors/emcgee/Boone_13e/PowerPoints/BoonKurzt_CB_JPG_May09/Ch08/Figure%208.6.jpg"/>
          <p:cNvPicPr/>
          <p:nvPr/>
        </p:nvPicPr>
        <p:blipFill>
          <a:blip r:embed="rId1"/>
          <a:stretch/>
        </p:blipFill>
        <p:spPr>
          <a:xfrm>
            <a:off x="990720" y="1981080"/>
            <a:ext cx="7162560" cy="34387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685800" y="182880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duct departmentalization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ganized based on the goods and services a company off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eographical departmentaliz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zed by geographical regions within a country or, for a multinational firm, by region throughout the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ustomer departmentalization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ganized by the different types of customers the organization ser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unctional departmentalization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ganized by business functions such as finance, marketing, human resources, and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cess departmentalization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ganized by work process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ary to complete production of goods or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 rot="21265200">
            <a:off x="791640" y="439560"/>
            <a:ext cx="48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Department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wipe dir="u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 rot="21265200">
            <a:off x="1024920" y="150480"/>
            <a:ext cx="44960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Impact"/>
              </a:rPr>
              <a:t>Different Forms of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Impact"/>
              </a:rPr>
              <a:t>Departmentaliz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ftp://emcgemod:jws&amp;ed$@ftp.wiley.com/ftp6/authors/emcgee/Boone_13e/PowerPoints/BoonKurzt_CB_JPG_May09/Ch08/Figure%208.7.jpg"/>
          <p:cNvPicPr/>
          <p:nvPr/>
        </p:nvPicPr>
        <p:blipFill>
          <a:blip r:embed="rId1"/>
          <a:stretch/>
        </p:blipFill>
        <p:spPr>
          <a:xfrm>
            <a:off x="1447920" y="1981080"/>
            <a:ext cx="5610240" cy="40291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leg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ct of assigning work activities to subordin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responsibility and the necessary authority for completing the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ployees have accountability, or responsibility for the results of the way they perform their assign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ority and responsibility move down; accountability moves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an of manag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number of subordinates, or direct reports, a supervisor man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entraliz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cision making is retained at the top of the management hierar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centraliz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cision making is located at the lower levels.  Many firms believe it enhances their flexibility and responsiveness to customer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 rot="21265200">
            <a:off x="1000080" y="152280"/>
            <a:ext cx="449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Delegating Work 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wipe dir="d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371600" y="1905120"/>
            <a:ext cx="7391520" cy="198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ine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est and simplest form; direct flow of authority from CEO to subordin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ain of command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dicates who directs which activities and who reports to wh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 rot="21265200">
            <a:off x="941040" y="179640"/>
            <a:ext cx="476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ypes of Organization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533520" y="4038480"/>
            <a:ext cx="7391160" cy="205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ine-and-Staff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line departments and staff depart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 departments participate directly in decisions that affect the core operations of the organiz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ff departments lend specialized technical sup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wipe dir="r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5"/>
          <p:cNvSpPr/>
          <p:nvPr/>
        </p:nvSpPr>
        <p:spPr>
          <a:xfrm rot="21265200">
            <a:off x="914400" y="180720"/>
            <a:ext cx="476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Line and Staff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ftp://emcgemod:jws&amp;ed$@ftp.wiley.com/ftp6/authors/emcgee/Boone_13e/PowerPoints/BoonKurzt_CB_JPG_May09/Ch08/Figure%208.8.jpg"/>
          <p:cNvPicPr/>
          <p:nvPr/>
        </p:nvPicPr>
        <p:blipFill>
          <a:blip r:embed="rId1"/>
          <a:stretch/>
        </p:blipFill>
        <p:spPr>
          <a:xfrm>
            <a:off x="2362320" y="1752480"/>
            <a:ext cx="4190760" cy="45928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57200" y="2057400"/>
            <a:ext cx="60199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ty and responsibility are in the hands of a group of individu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part of a line-and-staff struc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develop new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 to act slowly and conserva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make decisions by compromising conflicting interests rather than choosing best altern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Picture 2"/>
          <p:cNvPicPr/>
          <p:nvPr/>
        </p:nvPicPr>
        <p:blipFill>
          <a:blip r:embed="rId1"/>
          <a:stretch/>
        </p:blipFill>
        <p:spPr>
          <a:xfrm>
            <a:off x="6553080" y="1219320"/>
            <a:ext cx="2046240" cy="32828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 rot="21265200">
            <a:off x="914400" y="180720"/>
            <a:ext cx="476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ommittee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wipe dir="r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457200" y="17524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management structure tha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inks employees from different pa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organization to work together on specific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s report to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ine manager and a project mana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 rot="21265200">
            <a:off x="887400" y="425160"/>
            <a:ext cx="476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Matrix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520" y="3429000"/>
            <a:ext cx="4038840" cy="2743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 in adapting to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major problems or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et for empoyees’ creativity and initi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743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ng skills of many specialists into a coordinated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 frustration and confusion over reporting to two bo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pull dir="d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3"/>
          <p:cNvSpPr/>
          <p:nvPr/>
        </p:nvSpPr>
        <p:spPr>
          <a:xfrm rot="21265200">
            <a:off x="685800" y="180720"/>
            <a:ext cx="476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Matrix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1600200" y="1676520"/>
            <a:ext cx="59436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7" descr="ftp://emcgemod:jws&amp;ed$@ftp.wiley.com/ftp6/authors/emcgee/Boone_13e/PowerPoints/BoonKurzt_CB_JPG_May09/Ch08/Figure%208.9.jpg"/>
          <p:cNvPicPr/>
          <p:nvPr/>
        </p:nvPicPr>
        <p:blipFill>
          <a:blip r:embed="rId1"/>
          <a:stretch/>
        </p:blipFill>
        <p:spPr>
          <a:xfrm>
            <a:off x="1905120" y="1676520"/>
            <a:ext cx="5205240" cy="47242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5800" y="2286000"/>
            <a:ext cx="7772400" cy="1828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nagement is the process of achieving organizational objectives through people and other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 rot="21265200">
            <a:off x="867600" y="439560"/>
            <a:ext cx="500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at is Manag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ftp://emcgemod:jws&amp;ed$@ftp.wiley.com/ftp6/authors/emcgee/Boone_13e/PowerPoints/BoonKurzt_CB_JPG_May09/Ch08/Figure%208.1.jpg"/>
          <p:cNvPicPr/>
          <p:nvPr/>
        </p:nvPicPr>
        <p:blipFill>
          <a:blip r:embed="rId1"/>
          <a:stretch/>
        </p:blipFill>
        <p:spPr>
          <a:xfrm>
            <a:off x="3733920" y="3352680"/>
            <a:ext cx="3429000" cy="31194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304920" y="243828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long-rang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rategic pl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 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sp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ecutives and employees to achieve their vision for the company’s fu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 rot="21265200">
            <a:off x="1108440" y="38556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Top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ftp://emcgemod:jws&amp;ed$@ftp.wiley.com/ftp6/authors/emcgee/Boone_13e/PowerPoints/BoonKurzt_CB_JPG_May09/Ch08/Figure%208.1.jpg"/>
          <p:cNvPicPr/>
          <p:nvPr/>
        </p:nvPicPr>
        <p:blipFill>
          <a:blip r:embed="rId1"/>
          <a:stretch/>
        </p:blipFill>
        <p:spPr>
          <a:xfrm>
            <a:off x="4495680" y="1752480"/>
            <a:ext cx="4272120" cy="38862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304920" y="2133720"/>
            <a:ext cx="4114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ecific oper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roducts, or customer groups with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ganiz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develop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tailed plans and proced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the firm’s strategic pl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 rot="21265200">
            <a:off x="870480" y="379080"/>
            <a:ext cx="5450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Middl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ftp://emcgemod:jws&amp;ed$@ftp.wiley.com/ftp6/authors/emcgee/Boone_13e/PowerPoints/BoonKurzt_CB_JPG_May09/Ch08/Figure%208.1.jpg"/>
          <p:cNvPicPr/>
          <p:nvPr/>
        </p:nvPicPr>
        <p:blipFill>
          <a:blip r:embed="rId1"/>
          <a:stretch/>
        </p:blipFill>
        <p:spPr>
          <a:xfrm>
            <a:off x="4427640" y="1600200"/>
            <a:ext cx="4344840" cy="39528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04920" y="2209680"/>
            <a:ext cx="44193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mplement the pl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velop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middle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non-manager employ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tivate wor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ccomplish daily, weekly, and monthl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 rot="21265200">
            <a:off x="1090440" y="15192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Superviso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ftp://emcgemod:jws&amp;ed$@ftp.wiley.com/ftp6/authors/emcgee/Boone_13e/PowerPoints/BoonKurzt_CB_JPG_May09/Ch08/Figure%208.1.jpg"/>
          <p:cNvPicPr/>
          <p:nvPr/>
        </p:nvPicPr>
        <p:blipFill>
          <a:blip r:embed="rId1"/>
          <a:stretch/>
        </p:blipFill>
        <p:spPr>
          <a:xfrm>
            <a:off x="4251240" y="1676520"/>
            <a:ext cx="4368960" cy="39733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685800" y="182880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echnical ski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r’s ability to understand and use the techniques, knowledge, and tools and equipment of a specific discipline or depart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uman ski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personal skills that enable a manager to work effectively with and through peo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nceptual skill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ility to see the organization as a unified whole and to understand how each part of the overall organization interacts with other pa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 rot="21265200">
            <a:off x="1117080" y="150840"/>
            <a:ext cx="449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Skills Needed for Management Su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wipe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5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-35812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 rot="21265200">
            <a:off x="1095480" y="152280"/>
            <a:ext cx="449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Manageri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80520" y="1874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of determining courses of action for achieving organizational objec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Organ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nding human and material resources through a formal structure of autho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Dire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ing and motivating employees to accomplish organizational objec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832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ontro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ng an organization’s performance to determine whether it is accomplishing its objec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performance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 actual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actual performance with established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corrective action if requir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wipe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5800" y="205740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on is the perception of marketplace needs and the methods an organization can use to satisfy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st be focused yet adaptable to chang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business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-term success is also tied to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thical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nd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top executives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gh ethical standard can also encourage, motivate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inspire employees to achieve go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 rot="21265200">
            <a:off x="898200" y="303480"/>
            <a:ext cx="476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tting A Vision and Ethical Standards for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wipe dir="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right</cp:lastModifiedBy>
  <dcterms:modified xsi:type="dcterms:W3CDTF">2013-08-23T07:40:58Z</dcterms:modified>
  <cp:revision>861</cp:revision>
  <dc:subject/>
  <dc:title>PowerPoint Presentation</dc:title>
</cp:coreProperties>
</file>